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2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3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2.jpeg" ContentType="image/jpeg"/>
  <Override PartName="/ppt/media/image38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6EC-2291-424C-A580-E20E8B86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12D-2297-4FE9-A3EF-610204EF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AAE-C555-4831-987F-FEFAF4A7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C22-C54C-4ACF-AFA1-4115AE18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3787-8B9E-4040-817C-51E374EB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DD7C-D653-470B-851B-E2E23C2C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C606-AFFA-4AC0-ADFD-7CA94D29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082A-71EB-4D3F-B9EF-1FF207D3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4FB9-DA7D-4FC4-8A1A-A712C11A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6042-6007-41E2-AEF6-B5443460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5D44-D85D-4E75-AC24-1279C1CD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A64-6452-4362-89AD-7F94D21D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5DE7-E780-490F-8CEC-9FD7265A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0F97-60BB-4DFA-8A48-8A31A7A2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C93D-41C9-414E-B020-B62D5EB7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F4F6-FCBF-40FD-8005-B1DE53D0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DA79-05EC-48C5-913A-E4941F2A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5F644-3F57-4D51-A0AA-0DD47EDD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E955D-9638-4CA9-8A55-AA6068C9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68C09-2510-494B-B426-329CD6F8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B014-B954-4FCD-9D38-92E8CAC8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FCA0-D2A5-4765-9AE8-9D11540D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FC1-774E-422D-BBD7-8C17BE28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34122-08E5-459B-8CC4-ACCF2C06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37AA2-4794-45C8-A0FE-B3A75344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1BF10-15DB-40AB-ABD3-9189991F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D7CC-3B87-4D58-8E83-3382B819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AD38C-E92D-44B0-8C06-44ACE10A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0FE76-DC52-4F2E-9A1C-CB81AE56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9E16B-0F1C-4901-A54F-31D5FDD4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ECA3B-3DB7-43D0-B740-8480B415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DE0F4-BA97-4E2D-BEE7-F4AAB1CA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1A2F0-0766-498F-ACF1-EEB3E871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B44-215D-43CD-9F22-7C865B1A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F4718-791B-44EE-A0DB-BF301145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A4AC5-AD17-4A3B-AADA-BAD4B835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43F25-322C-4DD3-B2ED-9C04FF9B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54E91-F4D5-4D2D-BAF8-7DDFB749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1F087-C472-4FD9-B547-10272AAA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8EAC0-2795-495E-BE07-D358F0DB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9D4D4-C904-4EAC-B519-9413EE9B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0E443-5AA1-4130-BD2C-935BA6AC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2F340-0C4A-496A-8F13-D17BF9EF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4DA-1F06-4A6E-B628-190475EB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0B2-D34A-46A0-9583-9DDBE796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AA3-5E38-465D-9B44-93867A56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C87-6B0B-46C4-86B0-F39EA871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1ED-3D7F-4D03-ABCF-C10543F0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4AC1-732F-4EF9-81FF-1645326E75A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A2C4-8D35-4F10-A3B5-61F35D2ECBF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0439-45A5-4602-A403-D166DDC8057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E24B-8CB9-44F6-A562-086303D2318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201600" y="1341360"/>
            <a:ext cx="9358200" cy="2681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Минус 1,hight sound Очень грустная музыка, но красивая - минус,минуса,лирика.mp3" descr=""/>
          <p:cNvPicPr/>
          <p:nvPr/>
        </p:nvPicPr>
        <p:blipFill>
          <a:blip r:embed="rId2"/>
          <a:stretch/>
        </p:blipFill>
        <p:spPr>
          <a:xfrm>
            <a:off x="4429080" y="36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D:\Profiles\karasyova.ta\Рабочий стол\d8361849caf01.jpg"/>
          <p:cNvPicPr/>
          <p:nvPr/>
        </p:nvPicPr>
        <p:blipFill>
          <a:blip r:embed="rId1"/>
          <a:stretch/>
        </p:blipFill>
        <p:spPr>
          <a:xfrm>
            <a:off x="1403280" y="1484280"/>
            <a:ext cx="6408720" cy="5373720"/>
          </a:xfrm>
          <a:prstGeom prst="rect">
            <a:avLst/>
          </a:prstGeom>
          <a:ln w="0">
            <a:noFill/>
          </a:ln>
        </p:spPr>
      </p:pic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212760" y="-176040"/>
            <a:ext cx="8553240" cy="183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274680" y="262080"/>
            <a:ext cx="8491320" cy="1914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D:\Profiles\karasyova.ta\Рабочий стол\4b2ae4b97ba98f3b829188cce4718334.jpg"/>
          <p:cNvPicPr/>
          <p:nvPr/>
        </p:nvPicPr>
        <p:blipFill>
          <a:blip r:embed="rId2"/>
          <a:stretch/>
        </p:blipFill>
        <p:spPr>
          <a:xfrm>
            <a:off x="1835280" y="2349360"/>
            <a:ext cx="4997160" cy="450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212760" y="378000"/>
            <a:ext cx="8748720" cy="1688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D:\Profiles\karasyova.ta\Рабочий стол\Без названия (2).jpg"/>
          <p:cNvPicPr/>
          <p:nvPr/>
        </p:nvPicPr>
        <p:blipFill>
          <a:blip r:embed="rId2"/>
          <a:stretch/>
        </p:blipFill>
        <p:spPr>
          <a:xfrm>
            <a:off x="900000" y="2133720"/>
            <a:ext cx="6480360" cy="47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798040" cy="138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D:\Profiles\karasyova.ta\Рабочий стол\images (1).jpg"/>
          <p:cNvPicPr/>
          <p:nvPr/>
        </p:nvPicPr>
        <p:blipFill>
          <a:blip r:embed="rId2"/>
          <a:stretch/>
        </p:blipFill>
        <p:spPr>
          <a:xfrm>
            <a:off x="684360" y="1844640"/>
            <a:ext cx="6840360" cy="501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осту безнадзорности в стране способствуют причин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ост числа асоциальных сем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изкий уровень благосостояния семь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гативный опыт отношений с родителя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D:\Profiles\karasyova.ta\Рабочий стол\Без названия.jpg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400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еженцы и вынужденные переселенцы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езработные родител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стабильные браки (разводы)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3" descr="D:\Profiles\karasyova.ta\Рабочий стол\images (2).jpg"/>
          <p:cNvPicPr/>
          <p:nvPr/>
        </p:nvPicPr>
        <p:blipFill>
          <a:blip r:embed="rId1"/>
          <a:stretch/>
        </p:blipFill>
        <p:spPr>
          <a:xfrm>
            <a:off x="1692360" y="2708280"/>
            <a:ext cx="6048360" cy="414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333360"/>
            <a:ext cx="8229600" cy="59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готовность школы оказывать социально-педагогическую поддержку и сопровождение учащихся, оказавшихся в трудной жизненной ситуаци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личие у части учащихся негативного учебного опы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2" descr="D:\Profiles\karasyova.ta\Рабочий стол\Без названия (1).jpg"/>
          <p:cNvPicPr/>
          <p:nvPr/>
        </p:nvPicPr>
        <p:blipFill>
          <a:blip r:embed="rId1"/>
          <a:stretch/>
        </p:blipFill>
        <p:spPr>
          <a:xfrm>
            <a:off x="3780000" y="2708280"/>
            <a:ext cx="5364000" cy="414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Рисунок 4" descr="4d4ea0e83adbd (1).jpg"/>
          <p:cNvPicPr/>
          <p:nvPr/>
        </p:nvPicPr>
        <p:blipFill>
          <a:blip r:embed="rId1"/>
          <a:srcRect l="0" t="1852" r="0" b="18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кими бы причинами ни было обусловлено попадание ребенка в категорию безнадзорных, суть заключается в том, что он попадает 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 трудную жизненую ситуацию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объективно нарушающую его жизнедеятельность (сиротство; болезнь; малообеспеченность; отсутствие определенного места жительства; конфликты в семье и школе; жестокое обращение в семье; одиночество и др.), которую он не может преодолеть самостоятельно или с помощью семьи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Содержимое 3" descr="thumb_201202070535258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225360" y="1371600"/>
            <a:ext cx="8699400" cy="3749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оль школы в социальном воспитани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Школа как социальная среда может провоцировать различное поведение ребенка. Факторами формирования социального поведения, прежде всего, являются система отношений, школьный уклад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реди причин, по которым дети и подростки покидают школу, можно выделить следующие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подготовленность школы к работе с «проблемными» детьм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скрытый отсев»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лохое поведени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3" descr="D:\Profiles\karasyova.ta\Рабочий стол\df1f1d20ee86704251795841e6a9405a.jpg"/>
          <p:cNvPicPr/>
          <p:nvPr/>
        </p:nvPicPr>
        <p:blipFill>
          <a:blip r:embed="rId1"/>
          <a:stretch/>
        </p:blipFill>
        <p:spPr>
          <a:xfrm>
            <a:off x="2771640" y="2852640"/>
            <a:ext cx="5580360" cy="400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роблемы со здоровьем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физическое и моральное насилие учителей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3" descr="D:\Profiles\karasyova.ta\Рабочий стол\Насилие-в-школе.jpg"/>
          <p:cNvPicPr/>
          <p:nvPr/>
        </p:nvPicPr>
        <p:blipFill>
          <a:blip r:embed="rId1"/>
          <a:stretch/>
        </p:blipFill>
        <p:spPr>
          <a:xfrm>
            <a:off x="3419640" y="1844640"/>
            <a:ext cx="5724360" cy="501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успеваемость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тсутствие интереса к учебе и др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формирование у части учащихся отрицательного опыта учеб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3" descr="D:\Profiles\karasyova.ta\Рабочий стол\images (4).jpg"/>
          <p:cNvPicPr/>
          <p:nvPr/>
        </p:nvPicPr>
        <p:blipFill>
          <a:blip r:embed="rId1"/>
          <a:stretch/>
        </p:blipFill>
        <p:spPr>
          <a:xfrm>
            <a:off x="1692360" y="2492280"/>
            <a:ext cx="6264360" cy="4365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а сегодняшний день мы переживаем третью волну беспризорности после Гражданской и Великой Отечественной войн. Беспризорность и безнадзорность стимулируют криминализацию подростковой среды. Не достигшие совершеннолетия участвуют во взрослых преступлениях: сутенерстве, притоносодержательстве, мошеннических действиях с валютой и ценными бумагам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Содержимое 3" descr="besprizornik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entury"/>
              </a:rPr>
              <a:t>Я смогу…..я выживу….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 данным специалистов МКУ «ЦДОО г.Челябинска», СП МКУ «ЦОДОО г.Челябинска», за 2016 год обучающимися образовательных организаций города Челябинска совершен 221 самовольный уход из семьи или государственных, либо муниципальных учреждений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24000" y="2205000"/>
          <a:ext cx="8362800" cy="3932280"/>
        </p:xfrm>
        <a:graphic>
          <a:graphicData uri="http://schemas.openxmlformats.org/drawingml/2006/table">
            <a:tbl>
              <a:tblPr/>
              <a:tblGrid>
                <a:gridCol w="2303280"/>
                <a:gridCol w="1878120"/>
                <a:gridCol w="2090520"/>
                <a:gridCol w="20908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оличество несовершеннолетних, совершивших самовольный у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лини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урчат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ени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ллург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вет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акторозавод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нтр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Беспризорные дети имеют сложный социальный, медицинский и психолого-педагогический статус. Анализ проблем беспризорности привел к пониманию того, что условия, в которых живут эти дети и подростки, тормозят их социальное, физическое, умственное развитие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Содержимое 5" descr="Рисунок1.jpg"/>
          <p:cNvPicPr/>
          <p:nvPr/>
        </p:nvPicPr>
        <p:blipFill>
          <a:blip r:embed="rId1"/>
          <a:stretch/>
        </p:blipFill>
        <p:spPr>
          <a:xfrm>
            <a:off x="1547640" y="181764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ак выявить  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«трудного» ребенка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замкнутость, не желание общаться со сверстникам, взрослыми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систематический пропуск без уважительных причин учебных занятий в образовательной организации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бродяжничество или попрошайничество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ротивоправные действия и неоднократное нарушение устава государственного образовательного учреждения и Правила поведения обучающегося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неуспеваемость или оставление по неуважительным причинам на повторный курс обучения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употреблению наркотических средств или психотропных веществ без назначения врача либо других психоактивных веществ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ричисление обучающегося к неформальным объединениям и организациям антиобщественной направленности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остановка на учет в ПДН ОП УМВД России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4" descr="1281701489.jpg"/>
          <p:cNvPicPr/>
          <p:nvPr/>
        </p:nvPicPr>
        <p:blipFill>
          <a:blip r:embed="rId1"/>
          <a:srcRect l="0" t="1856" r="0" b="1856"/>
          <a:stretch/>
        </p:blipFill>
        <p:spPr>
          <a:xfrm>
            <a:off x="457200" y="0"/>
            <a:ext cx="8686800" cy="63453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1280" y="213840"/>
            <a:ext cx="7921440" cy="206244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емья- вот что важнее всего, вот что заставляет биться мое сердце. 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Филиппа Грегори “Еще одна из рода Болейн”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комендации по работе с детьми девиантного поведе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ежде всего необходим индивидуальный подход к каждому ученик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пределение форм и методов воспитательного воздействия в зависимости от конкретных условий жизни ученик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обходимо найти общий язык с ребенком, суметь разобраться с волнующими его проблем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изнать и уважать в каждом ребенке личность, способствовать свободному развитию и совершенствованию его душевного мир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ладеть методами и приемами коррекционной работы с трудными деть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ыть развивающейся и совершенствующейся личностью, ибо Личность воспитывается Личность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71360" y="713880"/>
            <a:ext cx="7615080" cy="5572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То, что способно вернуть человека к жизни, то что делает  человека счастливым, то ради чего некоторые отдают жизнь..способно погубить и уничтожить жизнь…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entury"/>
              </a:rPr>
              <a:t>Семья…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88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ебе решать какой она буде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Рисунок 5" descr="!!!.jpg"/>
          <p:cNvPicPr/>
          <p:nvPr/>
        </p:nvPicPr>
        <p:blipFill>
          <a:blip r:embed="rId1"/>
          <a:srcRect l="0" t="7442" r="0" b="744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4" descr="933113ea114fe44e2df8bdb08893a474 (1).jpg"/>
          <p:cNvPicPr/>
          <p:nvPr/>
        </p:nvPicPr>
        <p:blipFill>
          <a:blip r:embed="rId1"/>
          <a:srcRect l="0" t="11362" r="0" b="113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76360" y="189000"/>
            <a:ext cx="5327640" cy="9144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"/>
              </a:rPr>
              <a:t>Такой…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Рисунок 4" descr="58143612_semya.jpg"/>
          <p:cNvPicPr/>
          <p:nvPr/>
        </p:nvPicPr>
        <p:blipFill>
          <a:blip r:embed="rId1"/>
          <a:srcRect l="0" t="12238" r="0" b="122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4941360"/>
            <a:ext cx="4427640" cy="10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entury"/>
              </a:rPr>
              <a:t>Или такой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3" descr="ш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064720" cy="12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"/>
              </a:rPr>
              <a:t>Сделай правильный выбор))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4" descr="family.jpg"/>
          <p:cNvPicPr/>
          <p:nvPr/>
        </p:nvPicPr>
        <p:blipFill>
          <a:blip r:embed="rId1"/>
          <a:srcRect l="3846" t="0" r="384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2" descr="C:\Users\User\Desktop\семья.jpg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Заголовок 1" descr=""/>
          <p:cNvPicPr/>
          <p:nvPr/>
        </p:nvPicPr>
        <p:blipFill>
          <a:blip r:embed="rId2"/>
          <a:stretch/>
        </p:blipFill>
        <p:spPr>
          <a:xfrm>
            <a:off x="-49320" y="-103320"/>
            <a:ext cx="9315720" cy="244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457200" y="401760"/>
            <a:ext cx="8229600" cy="384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4" descr="lqnUX46v46c.jpg"/>
          <p:cNvPicPr/>
          <p:nvPr/>
        </p:nvPicPr>
        <p:blipFill>
          <a:blip r:embed="rId1"/>
          <a:srcRect l="3811" t="0" r="381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274680" y="476280"/>
            <a:ext cx="8534520" cy="597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19240" y="249120"/>
            <a:ext cx="8772480" cy="699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9:52:39Z</dcterms:created>
  <dc:creator>User</dc:creator>
  <dc:description/>
  <dc:language>en-US</dc:language>
  <cp:lastModifiedBy>Еременко Любовь Алексеевна</cp:lastModifiedBy>
  <dcterms:modified xsi:type="dcterms:W3CDTF">2017-02-14T08:26:17Z</dcterms:modified>
  <cp:revision>30</cp:revision>
  <dc:subject/>
  <dc:title>Слайд 1</dc:title>
</cp:coreProperties>
</file>